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39901-B263-4A41-B1B1-B7371E11C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dfdfd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0903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A7928-B6F9-4F81-A95C-6FBFAC1E9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dfdfd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9EEE2-0D68-47F8-87BA-25F85DD6E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dfdfd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B23A7-F1F6-47A2-A232-564A0639F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17375-EE49-4928-BBA7-BE1EDBEBF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dfdfd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B8FC1-A9A7-4EAB-89D5-B6B16BB88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dfdfd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DF825-1656-4FF3-A58A-2502FCD60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dfdfd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0CB7E-CCD3-4B37-9DD3-B1A6679DA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dfdf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67B8B-7E67-4AAD-9FE5-140821AA3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E2D61-958C-407E-9360-70B67553B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dfdfd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DE00B-5B71-44F3-AE59-55B8A6BB7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dfdfd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EA245-3C20-4442-9846-C56875D11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dfdf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861BB-E4A2-4193-B879-7F91A42AB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dfdf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4EE52-4AE8-4FD6-A64E-F4C51CA5E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dfdfd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0903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55308-2722-4FF9-9628-307315F37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dfdfd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6E14E-6AA4-4E25-9E25-934F777F2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dfdfd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D7AF3-401D-4D5C-AF0F-33297018F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dfdfd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7D2FD-EEA0-420C-BA30-490C4241D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dfdfd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8D2C6-543B-4165-ACFE-2AC421715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dfdf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6D9E1-9853-4688-9BB6-205B7FFBA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3132F-E67E-48E7-8F53-1544C1DC4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dfdfd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4739B-B5DD-4E1D-823F-19F473B83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dfdfd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212F1-4AD4-4D68-8B59-7B6BA4449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dfdfd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EC2CB-5396-43F1-A0D4-6B5E42E18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dfdfd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dfdfd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efefe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fefe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fefefe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fefe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Clr>
                <a:srgbClr val="fefefe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fefe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fefefe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fefe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fefefe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fefe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fefefe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fefe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fefefe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fefe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efef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efef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efef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efef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efef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4EBF2-393B-48E1-9FE1-D44D5AB27E6C}" type="slidenum">
              <a:rPr b="0" lang="en-US" sz="1400" spc="-1" strike="noStrike">
                <a:solidFill>
                  <a:srgbClr val="fefef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-1440" y="-144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15998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dfdfd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dfdfd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efef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efef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efef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efef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efef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FC7B8-8A4A-47C6-B0E5-499F5A4A9183}" type="slidenum">
              <a:rPr b="0" lang="en-US" sz="1400" spc="-1" strike="noStrike">
                <a:solidFill>
                  <a:srgbClr val="fefef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fefe"/>
                </a:solidFill>
                <a:latin typeface="Arial"/>
              </a:rPr>
              <a:t>Student on Grade Level</a:t>
            </a:r>
            <a:endParaRPr b="1" lang="en-US" sz="4400" spc="-1" strike="noStrike">
              <a:solidFill>
                <a:srgbClr val="fdfdfd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2557440" y="1981080"/>
            <a:ext cx="402768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dfdfd"/>
                </a:solidFill>
                <a:latin typeface="Arial"/>
              </a:rPr>
              <a:t>PEP for Students</a:t>
            </a:r>
            <a:br>
              <a:rPr sz="4000"/>
            </a:br>
            <a:r>
              <a:rPr b="1" lang="en-US" sz="4000" spc="-1" strike="noStrike">
                <a:solidFill>
                  <a:srgbClr val="fdfdfd"/>
                </a:solidFill>
                <a:latin typeface="Arial"/>
              </a:rPr>
              <a:t>Instructionally on Grade Level</a:t>
            </a:r>
            <a:endParaRPr b="1" lang="en-US" sz="4000" spc="-1" strike="noStrike">
              <a:solidFill>
                <a:srgbClr val="fdfdfd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efefe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fefe"/>
                </a:solidFill>
                <a:latin typeface="Arial"/>
              </a:rPr>
              <a:t>New for the 2010-2011 School Year</a:t>
            </a:r>
            <a:endParaRPr b="0" lang="en-US" sz="2800" spc="-1" strike="noStrike">
              <a:solidFill>
                <a:srgbClr val="fefef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efefe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fefe"/>
                </a:solidFill>
                <a:latin typeface="Arial"/>
              </a:rPr>
              <a:t>To address students who are instructionally on grade level, but did not demonstrate proficiency on EOG.</a:t>
            </a:r>
            <a:endParaRPr b="0" lang="en-US" sz="2800" spc="-1" strike="noStrike">
              <a:solidFill>
                <a:srgbClr val="fefef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efefe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fefe"/>
                </a:solidFill>
                <a:latin typeface="Arial"/>
              </a:rPr>
              <a:t>Must identified how the student was assessed to demonstrate s/he is instructionally on grade level, as well as what will be used to continue monitoring the student to make sure s/he remains instructionally on grade level.</a:t>
            </a:r>
            <a:endParaRPr b="0" lang="en-US" sz="2800" spc="-1" strike="noStrike">
              <a:solidFill>
                <a:srgbClr val="fefef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7T23:50:31Z</dcterms:created>
  <dc:creator>Chatham County Schools</dc:creator>
  <dc:description/>
  <dc:language>en-US</dc:language>
  <cp:lastModifiedBy>Chatham County Schools</cp:lastModifiedBy>
  <dcterms:modified xsi:type="dcterms:W3CDTF">2010-06-17T23:51:09Z</dcterms:modified>
  <cp:revision>1</cp:revision>
  <dc:subject/>
  <dc:title>Student on Grade Level</dc:title>
</cp:coreProperties>
</file>